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wmf" ContentType="image/x-wmf"/>
  <Override PartName="/ppt/media/image3.wmf" ContentType="image/x-wmf"/>
  <Override PartName="/ppt/media/image9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3B9-9AD0-46B1-A40E-4AC300E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E06-251D-48F3-8AB7-F4EB2ED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3DE-FC62-47CA-8664-8106A0AC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431-77E9-46C4-BFE8-31EE0833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4CE-0811-4CA5-A955-CDFD030A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5C2-D28D-469B-BC60-76FE97D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E29-D041-47F8-994A-20FD1B45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260-3B7F-45C3-91A7-B54F71C1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7CB-C554-4B3A-A6A0-C738CA61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0C5-81DC-42DD-B5FF-0DE6093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834-C6C0-45C3-8E2B-FB2D699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3CD-1298-4C9D-82F7-6A142D8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717-2633-4514-884E-DAB9798C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 Quality Applications of NOAA Operational Satellit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 Kondra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AA/NESDIS Center for Satellite Applications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96080" y="228600"/>
            <a:ext cx="1218960" cy="1219320"/>
            <a:chOff x="7696080" y="228600"/>
            <a:chExt cx="1218960" cy="1219320"/>
          </a:xfrm>
        </p:grpSpPr>
        <p:sp>
          <p:nvSpPr>
            <p:cNvPr id="44" name=""/>
            <p:cNvSpPr/>
            <p:nvPr/>
          </p:nvSpPr>
          <p:spPr>
            <a:xfrm>
              <a:off x="7711920" y="24444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696080" y="2286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152280" y="228600"/>
            <a:ext cx="1295280" cy="1257480"/>
            <a:chOff x="152280" y="228600"/>
            <a:chExt cx="1295280" cy="1257480"/>
          </a:xfrm>
        </p:grpSpPr>
        <p:sp>
          <p:nvSpPr>
            <p:cNvPr id="47" name=""/>
            <p:cNvSpPr/>
            <p:nvPr/>
          </p:nvSpPr>
          <p:spPr>
            <a:xfrm>
              <a:off x="206280" y="263520"/>
              <a:ext cx="1187280" cy="11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1295280" cy="125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AA Partne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operational satellite data are freely available to the public (http://www.osdpd.noaa.gov).  Most products are available within hours of data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 partners with NASA, EPA, USFS, and other agencies routinely to develop new applications of its satelli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ition of NASA research algorithms to NOAA for operational implement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ownload of NOAA GOES aerosol products by EPA Remote Sensing Information Gate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enhancement of EPA AIRNow system with NOAA GOME-2 NO2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leads sever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CEOS Atmospheric Composition Constellation project on NO2 reported 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tie in with EPA’s AIRNOW-I by developing global IDEA (Infusing satellite Data into Environmental Application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Hot Spot Detection and Characterization from 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ned area estimates derived from NOAA GOES-E satellite from 2002 to 2006 show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dland fires peak between June and Sept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nnual c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suppress the fires are substantial for all types of fires with a total cost of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8.6 billion dolla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68880" y="1239840"/>
          <a:ext cx="472284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239840"/>
                    <a:ext cx="47228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105520"/>
            <a:ext cx="373392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osts do not include impact of smoke from fires on human health and other costs associated with transportation and evacuation and loss of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95680" y="3162240"/>
          <a:ext cx="4496040" cy="187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162240"/>
                    <a:ext cx="44960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4267080"/>
          <a:ext cx="3992040" cy="2057040"/>
        </p:xfrm>
        <a:graphic>
          <a:graphicData uri="http://schemas.openxmlformats.org/drawingml/2006/table">
            <a:tbl>
              <a:tblPr/>
              <a:tblGrid>
                <a:gridCol w="2090880"/>
                <a:gridCol w="1901160"/>
              </a:tblGrid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(millions of doll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n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ub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lands/natural vege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6324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estimates (dollars per acre) were obtained from Gebert et al., West. J. of App. For., 22(3)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44520" y="76320"/>
            <a:ext cx="2322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Model Predictions with Satellite Data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2590560" cy="121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S Aerosol Optical Depth assimilation Improved CMAQ surface PM2.5 Predictions by ~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914920" cy="21862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200400" y="2819520"/>
            <a:ext cx="5684760" cy="3860280"/>
            <a:chOff x="3200400" y="2819520"/>
            <a:chExt cx="5684760" cy="386028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2551" t="12731" r="3236" b="11754"/>
            <a:stretch/>
          </p:blipFill>
          <p:spPr>
            <a:xfrm>
              <a:off x="3200400" y="3262320"/>
              <a:ext cx="5684760" cy="34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4480" y="28195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AQ (no assimil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0040" y="28195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AQ (assimil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4665600"/>
                <a:ext cx="32767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na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guess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na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ues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4166" t="0" r="5555" b="0"/>
          <a:stretch/>
        </p:blipFill>
        <p:spPr>
          <a:xfrm>
            <a:off x="4191120" y="2514600"/>
            <a:ext cx="4952880" cy="4240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105520" y="380880"/>
            <a:ext cx="34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S testing of smoke verification for Al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NESDIS GOES-W smok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038840" cy="291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" y="3255840"/>
            <a:ext cx="373392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240" y="274680"/>
            <a:ext cx="3962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ng PM2.5 from Satelli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46080"/>
            <a:ext cx="4038840" cy="323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92440" y="3276720"/>
            <a:ext cx="3098880" cy="3402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3098520" cy="339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943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s courtesy of Philip Morefield, 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9718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tesy of Hai Zhang, UM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NO2 Hots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6440" y="1600200"/>
            <a:ext cx="598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5228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Observed Diurn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10040" y="1219320"/>
            <a:ext cx="3062160" cy="229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42900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Model Diurn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944640"/>
            <a:ext cx="7848360" cy="276480"/>
            <a:chOff x="762120" y="944640"/>
            <a:chExt cx="7848360" cy="276480"/>
          </a:xfrm>
        </p:grpSpPr>
        <p:sp>
          <p:nvSpPr>
            <p:cNvPr id="84" name=""/>
            <p:cNvSpPr/>
            <p:nvPr/>
          </p:nvSpPr>
          <p:spPr>
            <a:xfrm>
              <a:off x="762120" y="9446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9446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 (Weekday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4480" y="9446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sonal Mean (Weekend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24188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019320" y="4241880"/>
            <a:ext cx="3081600" cy="231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062760" y="424188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1840" y="1219320"/>
            <a:ext cx="30621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10120" y="1193760"/>
            <a:ext cx="308160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57840" y="3962520"/>
            <a:ext cx="3081240" cy="2311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3081600" cy="2311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081600" cy="231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nd Measured Diurn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of NO2 in the U.S. Ozone Non-Attainm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rcRect l="0" t="0" r="0" b="42001"/>
          <a:stretch/>
        </p:blipFill>
        <p:spPr>
          <a:xfrm>
            <a:off x="2976480" y="2514600"/>
            <a:ext cx="3043440" cy="228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350532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0532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038480"/>
            <a:ext cx="2286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200400"/>
            <a:ext cx="22860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895480" y="2819520"/>
            <a:ext cx="10670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3657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19112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638680" y="3124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1480" y="428616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2200" y="426708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2200" y="1657440"/>
            <a:ext cx="342756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82640" y="1663560"/>
            <a:ext cx="342756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7621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and Modeled Weekday/Weekend Difference in Tropospheric 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66068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ME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26708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1660680"/>
            <a:ext cx="1219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AQ at 10 L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267080"/>
            <a:ext cx="12193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AQ at 13 L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1:16:53Z</dcterms:created>
  <dc:creator>shobhak</dc:creator>
  <dc:description/>
  <dc:language>en-US</dc:language>
  <cp:lastModifiedBy>ctsuser</cp:lastModifiedBy>
  <dcterms:modified xsi:type="dcterms:W3CDTF">2009-11-18T15:20:45Z</dcterms:modified>
  <cp:revision>13</cp:revision>
  <dc:subject/>
  <dc:title>Fire Hot Spot Detection from Hyperspectral Sounder</dc:title>
</cp:coreProperties>
</file>